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5720-919F-4055-B2C5-597B64EF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E14-7073-42A2-AE15-B370728D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85D-3D6A-48C4-A6CF-118BE863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FE3-06B8-4881-92B1-B558FA77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BCC7-C6D2-4F58-AB18-2001DAD9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0AE4-3ED3-471E-B2CC-459EB8B0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A36B-F21F-4EE8-B505-ABDB47A4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1965-5345-4E71-B08F-C6C9C6D5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E6F9-0EDC-4121-BFC6-ADBD5636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0F92-232A-4ECF-BADD-76D63B58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8F83-849D-4FA9-9608-BCE1B7D5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425-F7E3-4ABE-947E-1E4C1DFC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60D6-EF59-4E2A-AD81-D935802F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C0AE-F2A0-4325-A6B0-73D9F25A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60DA-18E5-4945-B57C-CBFE2B5D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D347-492A-4C5B-A837-E358ADAE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82B5-421B-4FC0-A491-DEE5F2D5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9E0EE-63C8-4128-A096-E73C568C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AE2B4-B912-42E7-A1E9-5617FC33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CD4D0-E807-486F-B6D3-8115BCC5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EEF2C-41EB-4025-AC83-BC22B8F0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D61A9-23F6-467F-8EA4-53B5FCE2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E22-5866-4F78-BDA7-DA5C4F59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3FDF9-50E8-4B89-8365-0CC93BF9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26099-70AC-4BD5-A21C-8D5A4A40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4011A-CAF7-4B4B-A69F-70FC44D4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5EF54-8282-42F9-B6A6-B954D5D1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FF1E2-6AD4-43F8-8E4B-2E005BDF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96B26-1A64-4392-A100-C5D16D90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1745C-4694-4CB7-9A09-FCFB80A0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BBBB0-53F8-46FD-8F30-39933074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9B5EA-0B65-402B-8EB8-1E735D9C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A1112-0939-4AD3-84A4-57F675AF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83E-7D94-456A-B61D-B75BECCE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1A5B3-4BF6-40C5-A909-22827B65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D0C63-8743-485E-B5B6-70813847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75F47-B9AB-41EB-B1F4-E1030868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AC519-3BC7-4306-8985-8994336D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200D9-5D0C-43F1-8650-B9ED98CA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82470-F07A-4DC2-8AFA-0AF4F795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0A849-3B24-4ECB-ADB2-8E57007B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19368-A14B-4B2B-A9E5-91490A21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1E2C6-AFDF-4D8A-8455-D0C38EE0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42D0C-B46B-409E-8A35-ED744A7B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E08-7935-455C-8066-0CFFCC42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96265-218D-4761-8E13-5B08C36D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7AC29-CC34-4260-9D91-A8C248A1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5F537-2E61-4084-A7A1-C52EEFF9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8DCD4-A036-424F-B13A-6453C0EF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93E0A-6CB9-46D7-8631-760A0F31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7DF01-A3EE-4B18-8C8F-D31316AC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60898-483A-455C-B1BD-96381AC4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05A15-C823-4786-80A9-3D763845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11596-5E23-4620-9F81-C7DF2547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DAAD4-316A-4D6F-8C4F-841037F0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42E-6ACC-4BC4-BC53-ACD99366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17753-8C7E-40D3-AACF-606E574B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A9F-253D-463D-A949-F7B48381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E807-07E5-44C9-81C4-811963A9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F673-266E-4646-AEA1-8BBDA510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DC84-F453-44DC-AB0B-0E668C6F9D0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F3F7-62E8-4D27-A85F-585A373B08E1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482E-E3D6-46F7-AD68-9DAC4A542E0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B0D8-AC9B-461E-9FDB-5C97DCB0075A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3DDD-F1C8-47EA-AF61-935D813C0A8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b13f9a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b13f9a"/>
                </a:solidFill>
                <a:latin typeface="Times New Roman"/>
              </a:rPr>
              <a:t>Основне сструков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6"/>
          <p:cNvSpPr/>
          <p:nvPr/>
        </p:nvSpPr>
        <p:spPr>
          <a:xfrm>
            <a:off x="324000" y="1752480"/>
            <a:ext cx="8381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835280" y="3124080"/>
            <a:ext cx="5545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b13f9a"/>
                </a:solidFill>
                <a:latin typeface="Times New Roman"/>
              </a:rPr>
              <a:t>8. наставна јединица (осм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imes New Roman"/>
              </a:rPr>
              <a:t>Комуникација са геријатријском популациј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747240" y="5997600"/>
            <a:ext cx="42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13f9a"/>
                </a:solidFill>
                <a:latin typeface="Times New Roman"/>
              </a:rPr>
              <a:t>Проф. др Драгана Игњатовић Рист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озволи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ругој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соб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овор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лушај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жљив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учи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овори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варим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ј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нимају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руг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људ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уди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презн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ритикам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жљив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сказуј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хтев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изнај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вој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 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решк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Хвали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н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редн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хвал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Покушајте</a:t>
            </a:r>
            <a:r>
              <a:rPr b="1" lang="sr-Latn-C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да</a:t>
            </a:r>
            <a:r>
              <a:rPr b="1" lang="sr-Latn-C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замислите</a:t>
            </a:r>
            <a:r>
              <a:rPr b="1" lang="sr-Latn-C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себе</a:t>
            </a:r>
            <a:r>
              <a:rPr b="1" lang="sr-Latn-C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у</a:t>
            </a:r>
            <a:r>
              <a:rPr b="1" lang="sr-Latn-C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улози</a:t>
            </a:r>
            <a:r>
              <a:rPr b="1" lang="sr-Latn-C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друго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збегавај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вађу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отивречит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кажи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обр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асположењ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 чула, нарочито чула слуха и вида, слабе старењем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ти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зациј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зорн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агал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очари, слушни апарати и слично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ји се могу прилагодит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г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ла бољо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јо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ј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л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збегaвати врло бучне звуке и изненадне покрет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век иднетификујете себе кад се приближавате особ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еците своје намере пре него што почнете разговор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ко је могуће, охрабрите особу слабијег вида да носи наочар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ека наочари буду чисте и диоптрија проверен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иближ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ране лиц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рат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лицем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лиц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слов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меном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жн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одирнит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овор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пори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асниј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овор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ижим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лас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рист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вербалн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муникациј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пиш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шт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требн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соб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рис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лушн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парат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храбр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љ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рис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авезн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овер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л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атериј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парат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справн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Тешкоће у налажењу праве реч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нављање уобичајених израза/реч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потреба нових речи да би се описали уобичајене и термин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Лако губљење тока мис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Тешкоће у одржавању логичности у излагањ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ве ређе комуницирање, све мање прич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ве веће ослањање на гестикулацију радије него на говор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Током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очетн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фаз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олел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ћ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мат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облем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зиком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маћ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тешкоћ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а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нверзациј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учић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онађ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ав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еч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олелом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ћ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ребати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иш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ремен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азмисл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ном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у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екл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ако би требало да одговор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ожд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ћ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чак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писиват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н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жел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мест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менуј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требну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вар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имер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„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н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вар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ој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ст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“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мест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„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четкиц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уб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„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вакв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итуациј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фрустрирајућ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олелог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итн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казати довољн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рпљењ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бог заборављања догађаја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з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блиске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шл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бог смањена способност концентрациј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бог успореног одговор на стимулусе из околин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бог проблеми са слухом и вид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бог немогућност читања или разумевања уопшт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285840" y="79200"/>
            <a:ext cx="7419960" cy="13892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тешкоћа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нађе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аву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еч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бог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чега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њихов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говор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еразумљи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тешкоћа да организује речи или да логички размишљ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ве чешће ослањање на невербалну гестикулациј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болели не жели никоме да отежа ситуацију, већ је отежана комуникација резултат боле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еалност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“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болелог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еома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азликује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тварне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еалности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–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болели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лзхеимерове</a:t>
            </a: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болести</a:t>
            </a: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живи</a:t>
            </a: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војој</a:t>
            </a: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стин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кажите да слушате и разумете шта оболели покушава да вам каж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Фокусирајте се на осећања не на чињениц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агласите важност за оно што оболели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мож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да урад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ипремите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собу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но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ће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ледеће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огоди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Будите реални; будите стрпљив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е расправљајте се, не критикујте, немојте исправљати оболелог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адржите смисао за хумор и запамтите да га има и особ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болела од Alzheimerove боле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оцес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мене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нформација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еко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оговореног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истема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знакова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а- </a:t>
            </a:r>
            <a:r>
              <a:rPr b="1" lang="en-US" sz="2600" spc="-1" strike="noStrike">
                <a:solidFill>
                  <a:srgbClr val="a34b73"/>
                </a:solidFill>
                <a:latin typeface="Trebuchet MS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главн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имензи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држај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орм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циљ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једно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држај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ор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реирају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sr-RS" sz="2600" spc="-1" strike="noStrike">
                <a:solidFill>
                  <a:srgbClr val="a34b73"/>
                </a:solidFill>
                <a:latin typeface="Trebuchet MS"/>
              </a:rPr>
              <a:t>порук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шаљу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 неким циљем.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Уколико понашање не може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нашкоди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ни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оболелом ни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осталима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допустите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се </a:t>
            </a: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спонатано одвиј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Оно што ви кажете и оно што оболели у том тренутку чује најчешће су две различите ствар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Третирајте оболелог са поштовање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Користите једноставне речи, разумљив језик, кратке речениц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Не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комуницирати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као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са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малим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детет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Не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односити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се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према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пацијенту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као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да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је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ствар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,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а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не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људско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бић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Ословљавајте особу именом и комуницирајте тек када се уверите да имате њихову пажњ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Дајте</a:t>
            </a: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им</a:t>
            </a: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времена</a:t>
            </a: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реагуј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упадајте</a:t>
            </a: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им</a:t>
            </a: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реч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м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„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онестан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“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речи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дискретно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м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онудит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решењ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зраз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реч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итања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нструкциј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формулишит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озитивном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смисл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ратит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нихов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невербалн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комуникациј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нарочито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мимик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Кратко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јасно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м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објасните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сваки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оступак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ли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роцедуру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ре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него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риступи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реализациј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Утврдите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доба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дана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када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су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комуникацијуски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најспособниј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Будите</a:t>
            </a:r>
            <a:r>
              <a:rPr b="1" lang="en-U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емпатичн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Вербална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 се оствару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sr-RS" sz="2600" spc="-1" strike="noStrike">
                <a:solidFill>
                  <a:srgbClr val="a34b73"/>
                </a:solidFill>
                <a:latin typeface="Trebuchet MS"/>
              </a:rPr>
              <a:t>говором и писм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ff00"/>
                </a:solidFill>
                <a:latin typeface="Trebuchet MS"/>
              </a:rPr>
              <a:t>Невербална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твару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ff00"/>
                </a:solidFill>
                <a:latin typeface="Trebuchet MS"/>
              </a:rPr>
              <a:t>невербалним</a:t>
            </a:r>
            <a:r>
              <a:rPr b="0" lang="en-US" sz="2600" spc="-1" strike="noStrike">
                <a:solidFill>
                  <a:srgbClr val="00ff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ff00"/>
                </a:solidFill>
                <a:latin typeface="Trebuchet MS"/>
              </a:rPr>
              <a:t>знаковим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Основни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комуникацијски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алат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људск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sr-RS" sz="2600" spc="-1" strike="noStrike">
                <a:solidFill>
                  <a:srgbClr val="ffff00"/>
                </a:solidFill>
                <a:latin typeface="Trebuchet MS"/>
              </a:rPr>
              <a:t>језик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ундамнтал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људск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ел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ци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 су показала да је код сваке комуникације само </a:t>
            </a:r>
            <a:r>
              <a:rPr b="1" lang="en-US" sz="2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7% вербалн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а, 38% тон и боја гласа, а </a:t>
            </a:r>
            <a:r>
              <a:rPr b="1" lang="pl-PL" sz="2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5%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сте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евербална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а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имер, за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у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лелу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zheimеrovе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„неизречен језик“ тела као и тон гласа постају много важнији него изговарање самих реч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Шта је сврха комуницирања? Слушати и бити саслушан!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Често не слушамо пажљиво оно што нам се говори и не разјаснимо увек значење оног што чујемо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место тога, убацујемо своје интерпретације и своје схавтање оног што нам је речено, што све може бити врло различито од интенције нашег саговорника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узданос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ктивно слушањ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Без просуђивањ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важавање разлика у систему вред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Без претпоставк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утентичнос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КАЖИТЕ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таријој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соби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ас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на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анима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желите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а је боље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познате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те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скрени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жељи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јој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могнет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збегавати стереотипе (стари људи су болесни, ограничених способности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ценити сензорне способности (слух, вид) и прилагодити се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ценити психосоцијалне потребе- разумети њихов оквир, рањивост, страхов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81160" y="317520"/>
            <a:ext cx="74246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ценити способност суочавања са проблемима (из разговора сазнати како су се носили с тешкоћама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ценити емоционално стањ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ценити потребу за помоћи (не подстицати зависност од других уколико није нужна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новити неколико пута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им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болесника (ради усмеравања пажње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ористити кратке речениц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здавати упутства једно по једн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омуницирајти и додир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дустаните од захтева ако препознате фрустрацију, агресиј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и понављању исте приче усмерити пажњу особе на циљ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EDF</dc:creator>
  <dc:description/>
  <dc:language>en-US</dc:language>
  <cp:lastModifiedBy>Slavica</cp:lastModifiedBy>
  <dcterms:modified xsi:type="dcterms:W3CDTF">2017-01-30T06:16:31Z</dcterms:modified>
  <cp:revision>20</cp:revision>
  <dc:subject/>
  <dc:title>ВЕШТИНА КОМУНИКАЦИЈЕ СА ОСОБАМА СА МЕНТАЛНИМ ПОРЕМЕЋАЈИМА. КОМУНИКАЦИЈА СА ГЕРИЈАТРИЈСКОМ ПОПУЛАЦИЈОМ </dc:title>
</cp:coreProperties>
</file>